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2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3ED9F-3083-41C4-B699-21FE53F04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60258-D9A0-48E9-A71D-A2BD615F4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B2877-DC8E-4243-9D20-1630695C2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1C5C0-6D80-4C67-8E1A-7DF56F0A2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C09DA-F484-4B56-903B-DABCCE844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E6718-491B-42EA-9144-4524B8ED3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D5242-4028-4DDD-9870-AFD54593E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A6E8D-0430-47B7-9CBE-68ABDA6F8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0236E-CEF5-4471-A071-40B5BD150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9E73A-009C-4695-B0C8-D49C3CB65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B5FC3-3C25-4466-8DF0-A516B1C08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ABD36-DDD0-4E37-9E3B-9883E9A19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1A99C-3F08-4704-9DFC-4369E8FA7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84C5C-B97F-429E-9733-0EDC2C25C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B018F-4C3C-47B1-850C-420CA135B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3350B-2523-413C-8C9C-B76F25673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D4854-1C1D-43C4-9487-A53104881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C3BD2-1126-4350-A7D3-69008BA54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2CDE2-D3DE-41EF-86E9-D8064FF27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9E7E0-58EA-4BC4-96D6-A00113B3C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9CA7A-985A-442D-9848-3E174D74E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2811F-A2C6-4496-9A72-1F243EDA5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2577C-9DF5-4E16-8157-EB48D86ED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0A6B1-AA82-41DE-B0B4-5E08A6BC6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3AC96-9A27-40CF-BD26-0CE29080A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7FEBF-C1F5-4BD0-B5D9-3B5D9D6B6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9E797-BF56-4C69-AA3A-264DB867B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EB806-107C-461E-87AA-D3528F097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F823C-215F-4E9C-AA32-8D46E5117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62D6-B6FC-482A-9217-43B9A0C7BA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5063F-3AAD-40D5-BA39-EE7ED69A8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75CAF-A719-4002-97BD-9667DBCE1A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53B7-76E7-4C3F-9B94-7A5DF4632A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79099-BDF3-4BE7-9A8F-E97264287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8D7E0-9D2D-404F-B265-1A62299A32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BA431-AB6E-4F42-94D7-CA43AE7FC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2CDFA-AA83-48B8-BFC1-4552BF539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213D0-02DA-474C-84DB-2B244E317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AEDD-E7A0-4DFA-B2DF-6A7E667CF7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5FCB8-9A9A-41E0-8875-1A3F8E324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D4015-AB2F-49D5-BBA1-F1E7C039DBA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685800" y="2438280"/>
            <a:ext cx="7772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CHANOTHERAP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3716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Doc.dr Igor Siman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457200" y="260280"/>
            <a:ext cx="685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ypobaric proced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2195640" y="2133720"/>
            <a:ext cx="4038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cus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Vascul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MANUAL THERAPEUTIC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685800" y="1905120"/>
            <a:ext cx="43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mani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6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608040"/>
                <a:tab algn="l" pos="1065240"/>
                <a:tab algn="l" pos="1522440"/>
                <a:tab algn="l" pos="1979640"/>
                <a:tab algn="l" pos="2436840"/>
                <a:tab algn="l" pos="2894040"/>
                <a:tab algn="l" pos="3351240"/>
                <a:tab algn="l" pos="3808440"/>
                <a:tab algn="l" pos="4265640"/>
                <a:tab algn="l" pos="4722840"/>
                <a:tab algn="l" pos="5180040"/>
                <a:tab algn="l" pos="5637240"/>
                <a:tab algn="l" pos="6094440"/>
                <a:tab algn="l" pos="6551640"/>
                <a:tab algn="l" pos="7008840"/>
                <a:tab algn="l" pos="7466040"/>
                <a:tab algn="l" pos="7923240"/>
                <a:tab algn="l" pos="8380440"/>
                <a:tab algn="l" pos="8837640"/>
                <a:tab algn="l" pos="9294840"/>
                <a:tab algn="l" pos="975204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438280" y="434340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5334120" y="42670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5257800" y="1447920"/>
            <a:ext cx="32767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457200" y="274680"/>
            <a:ext cx="533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tension procedures– tra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369720" y="1844640"/>
            <a:ext cx="5715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nsion is a passive kinesitherapeutic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can increase intervertebral space for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1,5–2,5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den the intervertebral foramin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amina intervertebralia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block the posterior intervertebral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ophyseal) joints which are anatomically closely connected with the spinal roots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nd the ligamentous appar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rcRect l="6576" t="4539" r="6978" b="1037"/>
          <a:stretch/>
        </p:blipFill>
        <p:spPr>
          <a:xfrm>
            <a:off x="6516720" y="0"/>
            <a:ext cx="262728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rcRect l="0" t="0" r="7143" b="0"/>
          <a:stretch/>
        </p:blipFill>
        <p:spPr>
          <a:xfrm>
            <a:off x="6443640" y="3284640"/>
            <a:ext cx="270036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ension can be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57200" y="220968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man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mittent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 – 60 sec,  30–60 sec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ccessive–progress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0" y="380880"/>
            <a:ext cx="86868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dications for extens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generative changes of the spin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Discus her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a phase of functional blockade of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degre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fasse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yndrom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drome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liolumb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raindications for extens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iscus her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for surgical treat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berculous spondyliti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mor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actur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re osteoporosi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heuerman’s disease, inguinal and scrotal hernia, severe cardiac and pulmonary diseases, pregnan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7010280" y="2438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SO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0" y="228600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onotherapy involves the use of sound for therapeutic purpos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oustic energy implies a form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wave mo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presented by longitudinal mechanic vibration of the material particl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which in the form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mpress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rarefac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reads through the gaseous, liquid and solid media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propagation speed depends on the frequency and wavelength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"/>
          <p:cNvSpPr/>
          <p:nvPr/>
        </p:nvSpPr>
        <p:spPr>
          <a:xfrm>
            <a:off x="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4648320" y="4495680"/>
            <a:ext cx="44956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4"/>
          <p:cNvGrpSpPr/>
          <p:nvPr/>
        </p:nvGrpSpPr>
        <p:grpSpPr>
          <a:xfrm>
            <a:off x="990720" y="4724280"/>
            <a:ext cx="7083360" cy="1521000"/>
            <a:chOff x="990720" y="4724280"/>
            <a:chExt cx="7083360" cy="1521000"/>
          </a:xfrm>
        </p:grpSpPr>
        <p:sp>
          <p:nvSpPr>
            <p:cNvPr id="130" name="Text Box 5"/>
            <p:cNvSpPr/>
            <p:nvPr/>
          </p:nvSpPr>
          <p:spPr>
            <a:xfrm>
              <a:off x="2328840" y="5929200"/>
              <a:ext cx="469260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2090880" y="4724280"/>
              <a:ext cx="51912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>
              <a:off x="2422440" y="5219640"/>
              <a:ext cx="0" cy="5288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Text Box 8"/>
            <p:cNvSpPr/>
            <p:nvPr/>
          </p:nvSpPr>
          <p:spPr>
            <a:xfrm>
              <a:off x="990720" y="4965840"/>
              <a:ext cx="142848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rection of oscillation of wave particl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9"/>
            <p:cNvSpPr/>
            <p:nvPr/>
          </p:nvSpPr>
          <p:spPr>
            <a:xfrm flipV="1">
              <a:off x="1949400" y="4826160"/>
              <a:ext cx="376200" cy="1807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1901880" y="5327640"/>
              <a:ext cx="376200" cy="209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>
              <a:off x="6881760" y="4900680"/>
              <a:ext cx="1192320" cy="6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rection of wave propag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Text Box 12"/>
          <p:cNvSpPr/>
          <p:nvPr/>
        </p:nvSpPr>
        <p:spPr>
          <a:xfrm>
            <a:off x="76320" y="3930480"/>
            <a:ext cx="906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ND IS A MECHANICAL LONGITUDINAL WAVE WITH A RANGE OF FREQUENCY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20 – 20.000 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Group 13"/>
          <p:cNvGrpSpPr/>
          <p:nvPr/>
        </p:nvGrpSpPr>
        <p:grpSpPr>
          <a:xfrm>
            <a:off x="2590920" y="1981080"/>
            <a:ext cx="3882960" cy="2206800"/>
            <a:chOff x="2590920" y="1981080"/>
            <a:chExt cx="3882960" cy="2206800"/>
          </a:xfrm>
        </p:grpSpPr>
        <p:grpSp>
          <p:nvGrpSpPr>
            <p:cNvPr id="139" name="Group 14"/>
            <p:cNvGrpSpPr/>
            <p:nvPr/>
          </p:nvGrpSpPr>
          <p:grpSpPr>
            <a:xfrm>
              <a:off x="3313080" y="2075040"/>
              <a:ext cx="2452680" cy="326880"/>
              <a:chOff x="3313080" y="2075040"/>
              <a:chExt cx="2452680" cy="326880"/>
            </a:xfrm>
          </p:grpSpPr>
          <p:grpSp>
            <p:nvGrpSpPr>
              <p:cNvPr id="140" name="Group 15"/>
              <p:cNvGrpSpPr/>
              <p:nvPr/>
            </p:nvGrpSpPr>
            <p:grpSpPr>
              <a:xfrm>
                <a:off x="4195440" y="2075040"/>
                <a:ext cx="733680" cy="321480"/>
                <a:chOff x="4195440" y="2075040"/>
                <a:chExt cx="733680" cy="321480"/>
              </a:xfrm>
            </p:grpSpPr>
            <p:grpSp>
              <p:nvGrpSpPr>
                <p:cNvPr id="141" name="Group 16"/>
                <p:cNvGrpSpPr/>
                <p:nvPr/>
              </p:nvGrpSpPr>
              <p:grpSpPr>
                <a:xfrm>
                  <a:off x="4379760" y="2075040"/>
                  <a:ext cx="363600" cy="159480"/>
                  <a:chOff x="4379760" y="2075040"/>
                  <a:chExt cx="363600" cy="159480"/>
                </a:xfrm>
              </p:grpSpPr>
              <p:sp>
                <p:nvSpPr>
                  <p:cNvPr id="142" name="Freeform 17"/>
                  <p:cNvSpPr/>
                  <p:nvPr/>
                </p:nvSpPr>
                <p:spPr>
                  <a:xfrm>
                    <a:off x="4379760" y="2075040"/>
                    <a:ext cx="181080" cy="159480"/>
                  </a:xfrm>
                  <a:custGeom>
                    <a:avLst/>
                    <a:gdLst>
                      <a:gd name="textAreaLeft" fmla="*/ 0 w 181080"/>
                      <a:gd name="textAreaRight" fmla="*/ 181440 w 18108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513" h="513">
                        <a:moveTo>
                          <a:pt x="0" y="513"/>
                        </a:moveTo>
                        <a:lnTo>
                          <a:pt x="119" y="311"/>
                        </a:lnTo>
                        <a:lnTo>
                          <a:pt x="231" y="154"/>
                        </a:lnTo>
                        <a:lnTo>
                          <a:pt x="359" y="41"/>
                        </a:lnTo>
                        <a:lnTo>
                          <a:pt x="426" y="19"/>
                        </a:lnTo>
                        <a:lnTo>
                          <a:pt x="513" y="0"/>
                        </a:lnTo>
                      </a:path>
                    </a:pathLst>
                  </a:custGeom>
                  <a:noFill/>
                  <a:ln cap="sq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18"/>
                  <p:cNvSpPr/>
                  <p:nvPr/>
                </p:nvSpPr>
                <p:spPr>
                  <a:xfrm flipH="1">
                    <a:off x="4562640" y="2075040"/>
                    <a:ext cx="180720" cy="159480"/>
                  </a:xfrm>
                  <a:custGeom>
                    <a:avLst/>
                    <a:gdLst>
                      <a:gd name="textAreaLeft" fmla="*/ 360 w 180720"/>
                      <a:gd name="textAreaRight" fmla="*/ 181440 w 18072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513" h="513">
                        <a:moveTo>
                          <a:pt x="0" y="513"/>
                        </a:moveTo>
                        <a:lnTo>
                          <a:pt x="119" y="311"/>
                        </a:lnTo>
                        <a:lnTo>
                          <a:pt x="231" y="154"/>
                        </a:lnTo>
                        <a:lnTo>
                          <a:pt x="359" y="41"/>
                        </a:lnTo>
                        <a:lnTo>
                          <a:pt x="426" y="19"/>
                        </a:lnTo>
                        <a:lnTo>
                          <a:pt x="513" y="0"/>
                        </a:lnTo>
                      </a:path>
                    </a:pathLst>
                  </a:custGeom>
                  <a:noFill/>
                  <a:ln cap="sq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" name="Freeform 19"/>
                <p:cNvSpPr/>
                <p:nvPr/>
              </p:nvSpPr>
              <p:spPr>
                <a:xfrm flipV="1">
                  <a:off x="4748040" y="2236680"/>
                  <a:ext cx="181080" cy="159480"/>
                </a:xfrm>
                <a:custGeom>
                  <a:avLst/>
                  <a:gdLst>
                    <a:gd name="textAreaLeft" fmla="*/ 0 w 181080"/>
                    <a:gd name="textAreaRight" fmla="*/ 181440 w 181080"/>
                    <a:gd name="textAreaTop" fmla="*/ -360 h 159480"/>
                    <a:gd name="textAreaBottom" fmla="*/ 159480 h 15948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5" name="Group 20"/>
                <p:cNvGrpSpPr/>
                <p:nvPr/>
              </p:nvGrpSpPr>
              <p:grpSpPr>
                <a:xfrm>
                  <a:off x="4379760" y="2075040"/>
                  <a:ext cx="363600" cy="159480"/>
                  <a:chOff x="4379760" y="2075040"/>
                  <a:chExt cx="363600" cy="159480"/>
                </a:xfrm>
              </p:grpSpPr>
              <p:sp>
                <p:nvSpPr>
                  <p:cNvPr id="146" name="Freeform 21"/>
                  <p:cNvSpPr/>
                  <p:nvPr/>
                </p:nvSpPr>
                <p:spPr>
                  <a:xfrm>
                    <a:off x="4379760" y="2075040"/>
                    <a:ext cx="181080" cy="159480"/>
                  </a:xfrm>
                  <a:custGeom>
                    <a:avLst/>
                    <a:gdLst>
                      <a:gd name="textAreaLeft" fmla="*/ 0 w 181080"/>
                      <a:gd name="textAreaRight" fmla="*/ 181440 w 18108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513" h="513">
                        <a:moveTo>
                          <a:pt x="0" y="513"/>
                        </a:moveTo>
                        <a:lnTo>
                          <a:pt x="119" y="311"/>
                        </a:lnTo>
                        <a:lnTo>
                          <a:pt x="231" y="154"/>
                        </a:lnTo>
                        <a:lnTo>
                          <a:pt x="359" y="41"/>
                        </a:lnTo>
                        <a:lnTo>
                          <a:pt x="426" y="19"/>
                        </a:lnTo>
                        <a:lnTo>
                          <a:pt x="513" y="0"/>
                        </a:lnTo>
                      </a:path>
                    </a:pathLst>
                  </a:custGeom>
                  <a:noFill/>
                  <a:ln cap="sq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22"/>
                  <p:cNvSpPr/>
                  <p:nvPr/>
                </p:nvSpPr>
                <p:spPr>
                  <a:xfrm flipH="1">
                    <a:off x="4562640" y="2075040"/>
                    <a:ext cx="180720" cy="159480"/>
                  </a:xfrm>
                  <a:custGeom>
                    <a:avLst/>
                    <a:gdLst>
                      <a:gd name="textAreaLeft" fmla="*/ 360 w 180720"/>
                      <a:gd name="textAreaRight" fmla="*/ 181440 w 18072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513" h="513">
                        <a:moveTo>
                          <a:pt x="0" y="513"/>
                        </a:moveTo>
                        <a:lnTo>
                          <a:pt x="119" y="311"/>
                        </a:lnTo>
                        <a:lnTo>
                          <a:pt x="231" y="154"/>
                        </a:lnTo>
                        <a:lnTo>
                          <a:pt x="359" y="41"/>
                        </a:lnTo>
                        <a:lnTo>
                          <a:pt x="426" y="19"/>
                        </a:lnTo>
                        <a:lnTo>
                          <a:pt x="513" y="0"/>
                        </a:lnTo>
                      </a:path>
                    </a:pathLst>
                  </a:custGeom>
                  <a:noFill/>
                  <a:ln cap="sq"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8" name="Freeform 23"/>
                <p:cNvSpPr/>
                <p:nvPr/>
              </p:nvSpPr>
              <p:spPr>
                <a:xfrm flipV="1">
                  <a:off x="4748040" y="2236680"/>
                  <a:ext cx="181080" cy="159480"/>
                </a:xfrm>
                <a:custGeom>
                  <a:avLst/>
                  <a:gdLst>
                    <a:gd name="textAreaLeft" fmla="*/ 0 w 181080"/>
                    <a:gd name="textAreaRight" fmla="*/ 181440 w 181080"/>
                    <a:gd name="textAreaTop" fmla="*/ -360 h 159480"/>
                    <a:gd name="textAreaBottom" fmla="*/ 159480 h 15948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24"/>
                <p:cNvSpPr/>
                <p:nvPr/>
              </p:nvSpPr>
              <p:spPr>
                <a:xfrm flipH="1" flipV="1">
                  <a:off x="4195080" y="2236680"/>
                  <a:ext cx="181080" cy="159480"/>
                </a:xfrm>
                <a:custGeom>
                  <a:avLst/>
                  <a:gdLst>
                    <a:gd name="textAreaLeft" fmla="*/ -360 w 181080"/>
                    <a:gd name="textAreaRight" fmla="*/ 181080 w 181080"/>
                    <a:gd name="textAreaTop" fmla="*/ -360 h 159480"/>
                    <a:gd name="textAreaBottom" fmla="*/ 159480 h 15948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Line 25"/>
              <p:cNvSpPr/>
              <p:nvPr/>
            </p:nvSpPr>
            <p:spPr>
              <a:xfrm>
                <a:off x="3313080" y="2401920"/>
                <a:ext cx="880920" cy="0"/>
              </a:xfrm>
              <a:prstGeom prst="line">
                <a:avLst/>
              </a:prstGeom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26"/>
              <p:cNvSpPr/>
              <p:nvPr/>
            </p:nvSpPr>
            <p:spPr>
              <a:xfrm>
                <a:off x="4933800" y="2401920"/>
                <a:ext cx="831960" cy="0"/>
              </a:xfrm>
              <a:prstGeom prst="line">
                <a:avLst/>
              </a:prstGeom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Text Box 27"/>
            <p:cNvSpPr/>
            <p:nvPr/>
          </p:nvSpPr>
          <p:spPr>
            <a:xfrm>
              <a:off x="2820960" y="2122560"/>
              <a:ext cx="4874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a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28"/>
            <p:cNvSpPr/>
            <p:nvPr/>
          </p:nvSpPr>
          <p:spPr>
            <a:xfrm>
              <a:off x="2820960" y="2830680"/>
              <a:ext cx="4874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b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4" name="Group 29"/>
            <p:cNvGrpSpPr/>
            <p:nvPr/>
          </p:nvGrpSpPr>
          <p:grpSpPr>
            <a:xfrm>
              <a:off x="3490920" y="2971800"/>
              <a:ext cx="689040" cy="561960"/>
              <a:chOff x="3490920" y="2971800"/>
              <a:chExt cx="689040" cy="561960"/>
            </a:xfrm>
          </p:grpSpPr>
          <p:grpSp>
            <p:nvGrpSpPr>
              <p:cNvPr id="155" name="Group 30"/>
              <p:cNvGrpSpPr/>
              <p:nvPr/>
            </p:nvGrpSpPr>
            <p:grpSpPr>
              <a:xfrm>
                <a:off x="3490920" y="2971800"/>
                <a:ext cx="342360" cy="279360"/>
                <a:chOff x="3490920" y="2971800"/>
                <a:chExt cx="342360" cy="279360"/>
              </a:xfrm>
            </p:grpSpPr>
            <p:sp>
              <p:nvSpPr>
                <p:cNvPr id="156" name="Freeform 31"/>
                <p:cNvSpPr/>
                <p:nvPr/>
              </p:nvSpPr>
              <p:spPr>
                <a:xfrm>
                  <a:off x="349092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32"/>
                <p:cNvSpPr/>
                <p:nvPr/>
              </p:nvSpPr>
              <p:spPr>
                <a:xfrm flipH="1">
                  <a:off x="3663360" y="2971800"/>
                  <a:ext cx="169560" cy="277920"/>
                </a:xfrm>
                <a:custGeom>
                  <a:avLst/>
                  <a:gdLst>
                    <a:gd name="textAreaLeft" fmla="*/ -360 w 169560"/>
                    <a:gd name="textAreaRight" fmla="*/ 169560 w 16956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33"/>
              <p:cNvGrpSpPr/>
              <p:nvPr/>
            </p:nvGrpSpPr>
            <p:grpSpPr>
              <a:xfrm>
                <a:off x="3836880" y="3254400"/>
                <a:ext cx="343080" cy="279360"/>
                <a:chOff x="3836880" y="3254400"/>
                <a:chExt cx="343080" cy="279360"/>
              </a:xfrm>
            </p:grpSpPr>
            <p:sp>
              <p:nvSpPr>
                <p:cNvPr id="159" name="Freeform 34"/>
                <p:cNvSpPr/>
                <p:nvPr/>
              </p:nvSpPr>
              <p:spPr>
                <a:xfrm flipV="1">
                  <a:off x="3836880" y="325440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35"/>
                <p:cNvSpPr/>
                <p:nvPr/>
              </p:nvSpPr>
              <p:spPr>
                <a:xfrm flipH="1" flipV="1">
                  <a:off x="4010040" y="3255840"/>
                  <a:ext cx="169920" cy="277920"/>
                </a:xfrm>
                <a:custGeom>
                  <a:avLst/>
                  <a:gdLst>
                    <a:gd name="textAreaLeft" fmla="*/ 360 w 169920"/>
                    <a:gd name="textAreaRight" fmla="*/ 17064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36"/>
              <p:cNvGrpSpPr/>
              <p:nvPr/>
            </p:nvGrpSpPr>
            <p:grpSpPr>
              <a:xfrm>
                <a:off x="3490920" y="2971800"/>
                <a:ext cx="342360" cy="279360"/>
                <a:chOff x="3490920" y="2971800"/>
                <a:chExt cx="342360" cy="279360"/>
              </a:xfrm>
            </p:grpSpPr>
            <p:sp>
              <p:nvSpPr>
                <p:cNvPr id="162" name="Freeform 37"/>
                <p:cNvSpPr/>
                <p:nvPr/>
              </p:nvSpPr>
              <p:spPr>
                <a:xfrm>
                  <a:off x="349092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38"/>
                <p:cNvSpPr/>
                <p:nvPr/>
              </p:nvSpPr>
              <p:spPr>
                <a:xfrm flipH="1">
                  <a:off x="3663360" y="2971800"/>
                  <a:ext cx="169560" cy="277920"/>
                </a:xfrm>
                <a:custGeom>
                  <a:avLst/>
                  <a:gdLst>
                    <a:gd name="textAreaLeft" fmla="*/ -360 w 169560"/>
                    <a:gd name="textAreaRight" fmla="*/ 169560 w 16956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Group 39"/>
              <p:cNvGrpSpPr/>
              <p:nvPr/>
            </p:nvGrpSpPr>
            <p:grpSpPr>
              <a:xfrm>
                <a:off x="3836880" y="3254400"/>
                <a:ext cx="343080" cy="279360"/>
                <a:chOff x="3836880" y="3254400"/>
                <a:chExt cx="343080" cy="279360"/>
              </a:xfrm>
            </p:grpSpPr>
            <p:sp>
              <p:nvSpPr>
                <p:cNvPr id="165" name="Freeform 40"/>
                <p:cNvSpPr/>
                <p:nvPr/>
              </p:nvSpPr>
              <p:spPr>
                <a:xfrm flipV="1">
                  <a:off x="3836880" y="325440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41"/>
                <p:cNvSpPr/>
                <p:nvPr/>
              </p:nvSpPr>
              <p:spPr>
                <a:xfrm flipH="1" flipV="1">
                  <a:off x="4010040" y="3255840"/>
                  <a:ext cx="169920" cy="277920"/>
                </a:xfrm>
                <a:custGeom>
                  <a:avLst/>
                  <a:gdLst>
                    <a:gd name="textAreaLeft" fmla="*/ 360 w 169920"/>
                    <a:gd name="textAreaRight" fmla="*/ 17064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42"/>
            <p:cNvGrpSpPr/>
            <p:nvPr/>
          </p:nvGrpSpPr>
          <p:grpSpPr>
            <a:xfrm>
              <a:off x="4184640" y="2971800"/>
              <a:ext cx="686880" cy="561960"/>
              <a:chOff x="4184640" y="2971800"/>
              <a:chExt cx="686880" cy="561960"/>
            </a:xfrm>
          </p:grpSpPr>
          <p:grpSp>
            <p:nvGrpSpPr>
              <p:cNvPr id="168" name="Group 43"/>
              <p:cNvGrpSpPr/>
              <p:nvPr/>
            </p:nvGrpSpPr>
            <p:grpSpPr>
              <a:xfrm>
                <a:off x="4184640" y="2971800"/>
                <a:ext cx="342720" cy="279360"/>
                <a:chOff x="4184640" y="2971800"/>
                <a:chExt cx="342720" cy="279360"/>
              </a:xfrm>
            </p:grpSpPr>
            <p:sp>
              <p:nvSpPr>
                <p:cNvPr id="169" name="Freeform 44"/>
                <p:cNvSpPr/>
                <p:nvPr/>
              </p:nvSpPr>
              <p:spPr>
                <a:xfrm>
                  <a:off x="418464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5"/>
                <p:cNvSpPr/>
                <p:nvPr/>
              </p:nvSpPr>
              <p:spPr>
                <a:xfrm flipH="1">
                  <a:off x="4355280" y="2971800"/>
                  <a:ext cx="171720" cy="277920"/>
                </a:xfrm>
                <a:custGeom>
                  <a:avLst/>
                  <a:gdLst>
                    <a:gd name="textAreaLeft" fmla="*/ -360 w 171720"/>
                    <a:gd name="textAreaRight" fmla="*/ 171720 w 1717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46"/>
              <p:cNvGrpSpPr/>
              <p:nvPr/>
            </p:nvGrpSpPr>
            <p:grpSpPr>
              <a:xfrm>
                <a:off x="4529160" y="3254400"/>
                <a:ext cx="342360" cy="279360"/>
                <a:chOff x="4529160" y="3254400"/>
                <a:chExt cx="342360" cy="279360"/>
              </a:xfrm>
            </p:grpSpPr>
            <p:sp>
              <p:nvSpPr>
                <p:cNvPr id="172" name="Freeform 47"/>
                <p:cNvSpPr/>
                <p:nvPr/>
              </p:nvSpPr>
              <p:spPr>
                <a:xfrm flipV="1">
                  <a:off x="4529160" y="325440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48"/>
                <p:cNvSpPr/>
                <p:nvPr/>
              </p:nvSpPr>
              <p:spPr>
                <a:xfrm flipH="1" flipV="1">
                  <a:off x="4701600" y="3255840"/>
                  <a:ext cx="169560" cy="277920"/>
                </a:xfrm>
                <a:custGeom>
                  <a:avLst/>
                  <a:gdLst>
                    <a:gd name="textAreaLeft" fmla="*/ -360 w 169560"/>
                    <a:gd name="textAreaRight" fmla="*/ 169560 w 16956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49"/>
              <p:cNvGrpSpPr/>
              <p:nvPr/>
            </p:nvGrpSpPr>
            <p:grpSpPr>
              <a:xfrm>
                <a:off x="4184640" y="2971800"/>
                <a:ext cx="342720" cy="279360"/>
                <a:chOff x="4184640" y="2971800"/>
                <a:chExt cx="342720" cy="279360"/>
              </a:xfrm>
            </p:grpSpPr>
            <p:sp>
              <p:nvSpPr>
                <p:cNvPr id="175" name="Freeform 50"/>
                <p:cNvSpPr/>
                <p:nvPr/>
              </p:nvSpPr>
              <p:spPr>
                <a:xfrm>
                  <a:off x="418464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51"/>
                <p:cNvSpPr/>
                <p:nvPr/>
              </p:nvSpPr>
              <p:spPr>
                <a:xfrm flipH="1">
                  <a:off x="4355280" y="2971800"/>
                  <a:ext cx="171720" cy="277920"/>
                </a:xfrm>
                <a:custGeom>
                  <a:avLst/>
                  <a:gdLst>
                    <a:gd name="textAreaLeft" fmla="*/ -360 w 171720"/>
                    <a:gd name="textAreaRight" fmla="*/ 171720 w 1717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52"/>
              <p:cNvGrpSpPr/>
              <p:nvPr/>
            </p:nvGrpSpPr>
            <p:grpSpPr>
              <a:xfrm>
                <a:off x="4529160" y="3254400"/>
                <a:ext cx="342360" cy="279360"/>
                <a:chOff x="4529160" y="3254400"/>
                <a:chExt cx="342360" cy="279360"/>
              </a:xfrm>
            </p:grpSpPr>
            <p:sp>
              <p:nvSpPr>
                <p:cNvPr id="178" name="Freeform 53"/>
                <p:cNvSpPr/>
                <p:nvPr/>
              </p:nvSpPr>
              <p:spPr>
                <a:xfrm flipV="1">
                  <a:off x="4529160" y="325440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4"/>
                <p:cNvSpPr/>
                <p:nvPr/>
              </p:nvSpPr>
              <p:spPr>
                <a:xfrm flipH="1" flipV="1">
                  <a:off x="4701600" y="3255840"/>
                  <a:ext cx="169560" cy="277920"/>
                </a:xfrm>
                <a:custGeom>
                  <a:avLst/>
                  <a:gdLst>
                    <a:gd name="textAreaLeft" fmla="*/ -360 w 169560"/>
                    <a:gd name="textAreaRight" fmla="*/ 169560 w 16956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0" name="Group 55"/>
            <p:cNvGrpSpPr/>
            <p:nvPr/>
          </p:nvGrpSpPr>
          <p:grpSpPr>
            <a:xfrm>
              <a:off x="4875120" y="2971800"/>
              <a:ext cx="687600" cy="561960"/>
              <a:chOff x="4875120" y="2971800"/>
              <a:chExt cx="687600" cy="561960"/>
            </a:xfrm>
          </p:grpSpPr>
          <p:grpSp>
            <p:nvGrpSpPr>
              <p:cNvPr id="181" name="Group 56"/>
              <p:cNvGrpSpPr/>
              <p:nvPr/>
            </p:nvGrpSpPr>
            <p:grpSpPr>
              <a:xfrm>
                <a:off x="4875120" y="2971800"/>
                <a:ext cx="340920" cy="279360"/>
                <a:chOff x="4875120" y="2971800"/>
                <a:chExt cx="340920" cy="279360"/>
              </a:xfrm>
            </p:grpSpPr>
            <p:sp>
              <p:nvSpPr>
                <p:cNvPr id="182" name="Freeform 57"/>
                <p:cNvSpPr/>
                <p:nvPr/>
              </p:nvSpPr>
              <p:spPr>
                <a:xfrm>
                  <a:off x="487512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58"/>
                <p:cNvSpPr/>
                <p:nvPr/>
              </p:nvSpPr>
              <p:spPr>
                <a:xfrm flipH="1">
                  <a:off x="5047560" y="2971800"/>
                  <a:ext cx="168120" cy="277920"/>
                </a:xfrm>
                <a:custGeom>
                  <a:avLst/>
                  <a:gdLst>
                    <a:gd name="textAreaLeft" fmla="*/ -360 w 168120"/>
                    <a:gd name="textAreaRight" fmla="*/ 168120 w 1681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Group 59"/>
              <p:cNvGrpSpPr/>
              <p:nvPr/>
            </p:nvGrpSpPr>
            <p:grpSpPr>
              <a:xfrm>
                <a:off x="5221440" y="3254400"/>
                <a:ext cx="341280" cy="279360"/>
                <a:chOff x="5221440" y="3254400"/>
                <a:chExt cx="341280" cy="279360"/>
              </a:xfrm>
            </p:grpSpPr>
            <p:sp>
              <p:nvSpPr>
                <p:cNvPr id="185" name="Freeform 60"/>
                <p:cNvSpPr/>
                <p:nvPr/>
              </p:nvSpPr>
              <p:spPr>
                <a:xfrm flipV="1">
                  <a:off x="5221440" y="3254400"/>
                  <a:ext cx="169560" cy="277920"/>
                </a:xfrm>
                <a:custGeom>
                  <a:avLst/>
                  <a:gdLst>
                    <a:gd name="textAreaLeft" fmla="*/ 0 w 169560"/>
                    <a:gd name="textAreaRight" fmla="*/ 169920 w 16956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61"/>
                <p:cNvSpPr/>
                <p:nvPr/>
              </p:nvSpPr>
              <p:spPr>
                <a:xfrm flipH="1" flipV="1">
                  <a:off x="5392800" y="3255840"/>
                  <a:ext cx="169920" cy="277920"/>
                </a:xfrm>
                <a:custGeom>
                  <a:avLst/>
                  <a:gdLst>
                    <a:gd name="textAreaLeft" fmla="*/ 360 w 169920"/>
                    <a:gd name="textAreaRight" fmla="*/ 17064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62"/>
              <p:cNvGrpSpPr/>
              <p:nvPr/>
            </p:nvGrpSpPr>
            <p:grpSpPr>
              <a:xfrm>
                <a:off x="4875120" y="2971800"/>
                <a:ext cx="340920" cy="279360"/>
                <a:chOff x="4875120" y="2971800"/>
                <a:chExt cx="340920" cy="279360"/>
              </a:xfrm>
            </p:grpSpPr>
            <p:sp>
              <p:nvSpPr>
                <p:cNvPr id="188" name="Freeform 63"/>
                <p:cNvSpPr/>
                <p:nvPr/>
              </p:nvSpPr>
              <p:spPr>
                <a:xfrm>
                  <a:off x="4875120" y="2973240"/>
                  <a:ext cx="169920" cy="277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64"/>
                <p:cNvSpPr/>
                <p:nvPr/>
              </p:nvSpPr>
              <p:spPr>
                <a:xfrm flipH="1">
                  <a:off x="5047560" y="2971800"/>
                  <a:ext cx="168120" cy="277920"/>
                </a:xfrm>
                <a:custGeom>
                  <a:avLst/>
                  <a:gdLst>
                    <a:gd name="textAreaLeft" fmla="*/ -360 w 168120"/>
                    <a:gd name="textAreaRight" fmla="*/ 168120 w 16812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65"/>
              <p:cNvGrpSpPr/>
              <p:nvPr/>
            </p:nvGrpSpPr>
            <p:grpSpPr>
              <a:xfrm>
                <a:off x="5221440" y="3254400"/>
                <a:ext cx="341280" cy="279360"/>
                <a:chOff x="5221440" y="3254400"/>
                <a:chExt cx="341280" cy="279360"/>
              </a:xfrm>
            </p:grpSpPr>
            <p:sp>
              <p:nvSpPr>
                <p:cNvPr id="191" name="Freeform 66"/>
                <p:cNvSpPr/>
                <p:nvPr/>
              </p:nvSpPr>
              <p:spPr>
                <a:xfrm flipV="1">
                  <a:off x="5221440" y="3254400"/>
                  <a:ext cx="169560" cy="277920"/>
                </a:xfrm>
                <a:custGeom>
                  <a:avLst/>
                  <a:gdLst>
                    <a:gd name="textAreaLeft" fmla="*/ 0 w 169560"/>
                    <a:gd name="textAreaRight" fmla="*/ 169920 w 16956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67"/>
                <p:cNvSpPr/>
                <p:nvPr/>
              </p:nvSpPr>
              <p:spPr>
                <a:xfrm flipH="1" flipV="1">
                  <a:off x="5392800" y="3255840"/>
                  <a:ext cx="169920" cy="277920"/>
                </a:xfrm>
                <a:custGeom>
                  <a:avLst/>
                  <a:gdLst>
                    <a:gd name="textAreaLeft" fmla="*/ 360 w 169920"/>
                    <a:gd name="textAreaRight" fmla="*/ 170640 w 169920"/>
                    <a:gd name="textAreaTop" fmla="*/ 360 h 277920"/>
                    <a:gd name="textAreaBottom" fmla="*/ 278640 h 277920"/>
                  </a:gdLst>
                  <a:ahLst/>
                  <a:rect l="textAreaLeft" t="textAreaTop" r="textAreaRight" b="textAreaBottom"/>
                  <a:pathLst>
                    <a:path w="513" h="513">
                      <a:moveTo>
                        <a:pt x="0" y="513"/>
                      </a:moveTo>
                      <a:lnTo>
                        <a:pt x="119" y="311"/>
                      </a:lnTo>
                      <a:lnTo>
                        <a:pt x="231" y="154"/>
                      </a:lnTo>
                      <a:lnTo>
                        <a:pt x="359" y="41"/>
                      </a:lnTo>
                      <a:lnTo>
                        <a:pt x="426" y="19"/>
                      </a:lnTo>
                      <a:lnTo>
                        <a:pt x="513" y="0"/>
                      </a:lnTo>
                    </a:path>
                  </a:pathLst>
                </a:custGeom>
                <a:noFill/>
                <a:ln cap="sq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3" name="Text Box 68"/>
            <p:cNvSpPr/>
            <p:nvPr/>
          </p:nvSpPr>
          <p:spPr>
            <a:xfrm>
              <a:off x="4027320" y="3349800"/>
              <a:ext cx="5781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t=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69"/>
            <p:cNvSpPr/>
            <p:nvPr/>
          </p:nvSpPr>
          <p:spPr>
            <a:xfrm>
              <a:off x="3313080" y="3255840"/>
              <a:ext cx="2452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70"/>
            <p:cNvSpPr/>
            <p:nvPr/>
          </p:nvSpPr>
          <p:spPr>
            <a:xfrm>
              <a:off x="3490920" y="2782800"/>
              <a:ext cx="0" cy="9892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71"/>
            <p:cNvSpPr/>
            <p:nvPr/>
          </p:nvSpPr>
          <p:spPr>
            <a:xfrm>
              <a:off x="3044880" y="3303720"/>
              <a:ext cx="5778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t=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72"/>
            <p:cNvSpPr/>
            <p:nvPr/>
          </p:nvSpPr>
          <p:spPr>
            <a:xfrm flipV="1">
              <a:off x="3313080" y="3252600"/>
              <a:ext cx="174600" cy="144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73"/>
            <p:cNvSpPr/>
            <p:nvPr/>
          </p:nvSpPr>
          <p:spPr>
            <a:xfrm flipH="1" flipV="1">
              <a:off x="4202280" y="3252600"/>
              <a:ext cx="47520" cy="1918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74"/>
            <p:cNvSpPr/>
            <p:nvPr/>
          </p:nvSpPr>
          <p:spPr>
            <a:xfrm>
              <a:off x="3670200" y="2782800"/>
              <a:ext cx="0" cy="1857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75"/>
            <p:cNvSpPr/>
            <p:nvPr/>
          </p:nvSpPr>
          <p:spPr>
            <a:xfrm>
              <a:off x="4340160" y="2782800"/>
              <a:ext cx="0" cy="1857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76"/>
            <p:cNvSpPr/>
            <p:nvPr/>
          </p:nvSpPr>
          <p:spPr>
            <a:xfrm>
              <a:off x="3670200" y="2878200"/>
              <a:ext cx="220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77"/>
            <p:cNvSpPr/>
            <p:nvPr/>
          </p:nvSpPr>
          <p:spPr>
            <a:xfrm>
              <a:off x="4116240" y="2878200"/>
              <a:ext cx="2206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78"/>
            <p:cNvSpPr/>
            <p:nvPr/>
          </p:nvSpPr>
          <p:spPr>
            <a:xfrm>
              <a:off x="3848040" y="2689200"/>
              <a:ext cx="4428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79"/>
            <p:cNvSpPr/>
            <p:nvPr/>
          </p:nvSpPr>
          <p:spPr>
            <a:xfrm>
              <a:off x="5099040" y="2641680"/>
              <a:ext cx="8460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v =</a:t>
              </a:r>
              <a:r>
                <a:rPr b="1" lang="en-US" sz="1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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80"/>
            <p:cNvSpPr/>
            <p:nvPr/>
          </p:nvSpPr>
          <p:spPr>
            <a:xfrm>
              <a:off x="4741920" y="2830680"/>
              <a:ext cx="44280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Text Box 81"/>
            <p:cNvSpPr/>
            <p:nvPr/>
          </p:nvSpPr>
          <p:spPr>
            <a:xfrm>
              <a:off x="5724360" y="3067200"/>
              <a:ext cx="4874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x, 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82"/>
            <p:cNvSpPr/>
            <p:nvPr/>
          </p:nvSpPr>
          <p:spPr>
            <a:xfrm>
              <a:off x="3222720" y="2595600"/>
              <a:ext cx="4874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83"/>
            <p:cNvSpPr/>
            <p:nvPr/>
          </p:nvSpPr>
          <p:spPr>
            <a:xfrm>
              <a:off x="2590920" y="3765600"/>
              <a:ext cx="38829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84"/>
            <p:cNvSpPr/>
            <p:nvPr/>
          </p:nvSpPr>
          <p:spPr>
            <a:xfrm>
              <a:off x="4921200" y="2170080"/>
              <a:ext cx="44280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Text Box 85"/>
            <p:cNvSpPr/>
            <p:nvPr/>
          </p:nvSpPr>
          <p:spPr>
            <a:xfrm>
              <a:off x="5322960" y="1981080"/>
              <a:ext cx="4428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v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Text Box 86"/>
          <p:cNvSpPr/>
          <p:nvPr/>
        </p:nvSpPr>
        <p:spPr>
          <a:xfrm>
            <a:off x="990720" y="1371600"/>
            <a:ext cx="71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MECHANICAL WAVES</a:t>
            </a:r>
            <a:r>
              <a:rPr b="1" lang="sr-Latn-CS" sz="1600" spc="-1" strike="noStrike">
                <a:solidFill>
                  <a:srgbClr val="000000"/>
                </a:solidFill>
                <a:latin typeface="Arial Black"/>
              </a:rPr>
              <a:t>– </a:t>
            </a: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BASIC CHARACTERIS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SOUND AND ULTRAS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19080" y="1771560"/>
            <a:ext cx="236232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tras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2247840" y="1447920"/>
            <a:ext cx="2971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0-20.000 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0.000 Hz – 10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4876920" y="1447920"/>
            <a:ext cx="4267080" cy="29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W/m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0 W/m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nostic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- 40 W/m</a:t>
            </a:r>
            <a:r>
              <a:rPr b="1" lang="sl-SI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apeu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1.000 W/m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mary effect of ultrasound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2438280" y="1752480"/>
            <a:ext cx="5943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chanical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mal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-chemical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roreflexive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685800" y="38088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condary effects of ultrasou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1066680" y="2286000"/>
            <a:ext cx="7315200" cy="4267080"/>
          </a:xfrm>
          <a:prstGeom prst="rect">
            <a:avLst/>
          </a:prstGeom>
          <a:noFill/>
          <a:ln cap="sq"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ges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smolyth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ti-inflamma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paticolyth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provement of microcirculation, muscle mass and tissue regen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ybrinoly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CHA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914400" y="1905120"/>
            <a:ext cx="7467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ual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l forms of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aratus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baric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ual therapeutic techniques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ipulatio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on procedure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tio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notherapy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ra and ultrasoun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de-effects of so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556000" y="2349360"/>
            <a:ext cx="487656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vitation phenomenon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er dose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ltrasound dev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2627280" y="1600200"/>
            <a:ext cx="4033800" cy="4525920"/>
          </a:xfrm>
          <a:prstGeom prst="rect">
            <a:avLst/>
          </a:prstGeom>
          <a:noFill/>
          <a:ln cap="sq"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s of acquir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netostri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omecha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ics of the ultrasound 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2193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465300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aq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Sonophores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228600" y="1828800"/>
            <a:ext cx="8763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topical drug is usually in a form of ointment or cream and most often the following drugs are used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omucasae, hylase, hidrocortison, antirheumatic ointments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atment is performed using a labile method, and a medical cream or ointment s used as a contact med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ing of so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ount of the received dose depends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Intensity(W/cm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Surface on which it is applied (cm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Duration of application (mi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Number of da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ce YU"/>
                <a:ea typeface="Times New Roman"/>
              </a:rPr>
              <a:t>Indications for so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6858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loids and sca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Dupuytre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contra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throsis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RA, Mb Bechter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ndovaginitis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PAHS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pycondylitis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rac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sttraumatic conditions and their com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uralgia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usalgia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ccigodi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one crushing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Mb Meniere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ypophyseal surgeries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685800" y="3808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ce YU"/>
                <a:ea typeface="Times New Roman"/>
              </a:rPr>
              <a:t>Contraindications for sono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525600" y="1844640"/>
            <a:ext cx="822960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France YU"/>
                <a:ea typeface="Times New Roman"/>
              </a:rPr>
              <a:t>It is not used</a:t>
            </a:r>
            <a:r>
              <a:rPr b="1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in the area of the head 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along the hairline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r>
              <a:rPr b="1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medulae</a:t>
            </a:r>
            <a:r>
              <a:rPr b="1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spinalis</a:t>
            </a:r>
            <a:r>
              <a:rPr b="1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gravid uterus and in children’s age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growth zones</a:t>
            </a:r>
            <a:r>
              <a:rPr b="1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Presence of metal in the field </a:t>
            </a:r>
            <a:r>
              <a:rPr b="1" lang="en-US" sz="2800" spc="-1" strike="noStrike">
                <a:solidFill>
                  <a:srgbClr val="c0504d"/>
                </a:solidFill>
                <a:latin typeface="France YU"/>
                <a:ea typeface="Times New Roman"/>
              </a:rPr>
              <a:t>is not a contrain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aindications for sono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403280" y="1557360"/>
            <a:ext cx="7067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brile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mbophleb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eeding and bleeding tend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steopor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ute infectious dis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berculosi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ronchiec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ligna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ompensation of vital organs.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MANUAL MASSAG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0" y="2057400"/>
            <a:ext cx="4114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apeutic mass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orts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gienic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5877000" y="2919240"/>
            <a:ext cx="1581120" cy="1886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3886200" y="19810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chniques of classic manual mass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57200" y="2209680"/>
            <a:ext cx="82296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LEU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I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TRI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POTMENT or PERC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B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ffects of various forms of massage according to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R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2"/>
          <p:cNvGrpSpPr/>
          <p:nvPr/>
        </p:nvGrpSpPr>
        <p:grpSpPr>
          <a:xfrm>
            <a:off x="457200" y="1600200"/>
            <a:ext cx="8226360" cy="4989600"/>
            <a:chOff x="457200" y="1600200"/>
            <a:chExt cx="8226360" cy="4989600"/>
          </a:xfrm>
        </p:grpSpPr>
        <p:sp>
          <p:nvSpPr>
            <p:cNvPr id="63" name="Rectangle 3"/>
            <p:cNvSpPr/>
            <p:nvPr/>
          </p:nvSpPr>
          <p:spPr>
            <a:xfrm>
              <a:off x="457200" y="1600200"/>
              <a:ext cx="190116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ffe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4"/>
            <p:cNvSpPr/>
            <p:nvPr/>
          </p:nvSpPr>
          <p:spPr>
            <a:xfrm>
              <a:off x="2361600" y="1600200"/>
              <a:ext cx="144900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ssage strok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5"/>
            <p:cNvSpPr/>
            <p:nvPr/>
          </p:nvSpPr>
          <p:spPr>
            <a:xfrm>
              <a:off x="3813840" y="1600200"/>
              <a:ext cx="189612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ssues that are affect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6"/>
            <p:cNvSpPr/>
            <p:nvPr/>
          </p:nvSpPr>
          <p:spPr>
            <a:xfrm>
              <a:off x="5712120" y="1600200"/>
              <a:ext cx="296784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flu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7"/>
            <p:cNvSpPr/>
            <p:nvPr/>
          </p:nvSpPr>
          <p:spPr>
            <a:xfrm>
              <a:off x="457200" y="2404800"/>
              <a:ext cx="1901160" cy="15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da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8"/>
            <p:cNvSpPr/>
            <p:nvPr/>
          </p:nvSpPr>
          <p:spPr>
            <a:xfrm>
              <a:off x="2361600" y="2404800"/>
              <a:ext cx="144900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ffleur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9"/>
            <p:cNvSpPr/>
            <p:nvPr/>
          </p:nvSpPr>
          <p:spPr>
            <a:xfrm>
              <a:off x="3813840" y="2404800"/>
              <a:ext cx="189612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овршина кож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0"/>
            <p:cNvSpPr/>
            <p:nvPr/>
          </p:nvSpPr>
          <p:spPr>
            <a:xfrm>
              <a:off x="5712120" y="2404800"/>
              <a:ext cx="296784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ough the nerve ending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1"/>
            <p:cNvSpPr/>
            <p:nvPr/>
          </p:nvSpPr>
          <p:spPr>
            <a:xfrm>
              <a:off x="2361600" y="3044160"/>
              <a:ext cx="144900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perficial fri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2"/>
            <p:cNvSpPr/>
            <p:nvPr/>
          </p:nvSpPr>
          <p:spPr>
            <a:xfrm>
              <a:off x="3813840" y="3044160"/>
              <a:ext cx="189612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kin and subcutaneous tissu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3"/>
            <p:cNvSpPr/>
            <p:nvPr/>
          </p:nvSpPr>
          <p:spPr>
            <a:xfrm>
              <a:off x="5712120" y="3044160"/>
              <a:ext cx="296784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n all elements involved by these laye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4"/>
            <p:cNvSpPr/>
            <p:nvPr/>
          </p:nvSpPr>
          <p:spPr>
            <a:xfrm>
              <a:off x="457200" y="3956760"/>
              <a:ext cx="1901160" cy="26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imulato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2361600" y="3956760"/>
              <a:ext cx="144900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ep fri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3813840" y="3956760"/>
              <a:ext cx="189612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l layers of the soft tissu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7"/>
            <p:cNvSpPr/>
            <p:nvPr/>
          </p:nvSpPr>
          <p:spPr>
            <a:xfrm>
              <a:off x="5712120" y="3956760"/>
              <a:ext cx="296784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n all elements within th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8"/>
            <p:cNvSpPr/>
            <p:nvPr/>
          </p:nvSpPr>
          <p:spPr>
            <a:xfrm>
              <a:off x="2361600" y="4761360"/>
              <a:ext cx="144900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trisag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9"/>
            <p:cNvSpPr/>
            <p:nvPr/>
          </p:nvSpPr>
          <p:spPr>
            <a:xfrm>
              <a:off x="3813840" y="4761360"/>
              <a:ext cx="189612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ft tissu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20"/>
            <p:cNvSpPr/>
            <p:nvPr/>
          </p:nvSpPr>
          <p:spPr>
            <a:xfrm>
              <a:off x="5712120" y="4761360"/>
              <a:ext cx="296784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rong influence on musc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1"/>
            <p:cNvSpPr/>
            <p:nvPr/>
          </p:nvSpPr>
          <p:spPr>
            <a:xfrm>
              <a:off x="2361600" y="5675400"/>
              <a:ext cx="144900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ot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2"/>
            <p:cNvSpPr/>
            <p:nvPr/>
          </p:nvSpPr>
          <p:spPr>
            <a:xfrm>
              <a:off x="3813840" y="5675400"/>
              <a:ext cx="189612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ft tisu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23"/>
            <p:cNvSpPr/>
            <p:nvPr/>
          </p:nvSpPr>
          <p:spPr>
            <a:xfrm>
              <a:off x="5712120" y="5675400"/>
              <a:ext cx="2967840" cy="9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imulates muscles which react with mild contrac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24"/>
            <p:cNvSpPr/>
            <p:nvPr/>
          </p:nvSpPr>
          <p:spPr>
            <a:xfrm>
              <a:off x="2361600" y="1600200"/>
              <a:ext cx="0" cy="498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5"/>
            <p:cNvSpPr/>
            <p:nvPr/>
          </p:nvSpPr>
          <p:spPr>
            <a:xfrm>
              <a:off x="3813840" y="1600200"/>
              <a:ext cx="0" cy="498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26"/>
            <p:cNvSpPr/>
            <p:nvPr/>
          </p:nvSpPr>
          <p:spPr>
            <a:xfrm>
              <a:off x="5712120" y="1600200"/>
              <a:ext cx="0" cy="498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27"/>
            <p:cNvSpPr/>
            <p:nvPr/>
          </p:nvSpPr>
          <p:spPr>
            <a:xfrm>
              <a:off x="457200" y="2404800"/>
              <a:ext cx="8223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8"/>
            <p:cNvSpPr/>
            <p:nvPr/>
          </p:nvSpPr>
          <p:spPr>
            <a:xfrm>
              <a:off x="2361600" y="3044160"/>
              <a:ext cx="6318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9"/>
            <p:cNvSpPr/>
            <p:nvPr/>
          </p:nvSpPr>
          <p:spPr>
            <a:xfrm>
              <a:off x="457200" y="3956760"/>
              <a:ext cx="8223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30"/>
            <p:cNvSpPr/>
            <p:nvPr/>
          </p:nvSpPr>
          <p:spPr>
            <a:xfrm>
              <a:off x="2361600" y="4761360"/>
              <a:ext cx="6318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31"/>
            <p:cNvSpPr/>
            <p:nvPr/>
          </p:nvSpPr>
          <p:spPr>
            <a:xfrm>
              <a:off x="2361600" y="5675400"/>
              <a:ext cx="6318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32"/>
            <p:cNvSpPr/>
            <p:nvPr/>
          </p:nvSpPr>
          <p:spPr>
            <a:xfrm>
              <a:off x="457200" y="1600200"/>
              <a:ext cx="0" cy="498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33"/>
            <p:cNvSpPr/>
            <p:nvPr/>
          </p:nvSpPr>
          <p:spPr>
            <a:xfrm>
              <a:off x="8683560" y="1600200"/>
              <a:ext cx="0" cy="4986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34"/>
            <p:cNvSpPr/>
            <p:nvPr/>
          </p:nvSpPr>
          <p:spPr>
            <a:xfrm>
              <a:off x="457200" y="1600200"/>
              <a:ext cx="8223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35"/>
            <p:cNvSpPr/>
            <p:nvPr/>
          </p:nvSpPr>
          <p:spPr>
            <a:xfrm>
              <a:off x="457200" y="6589800"/>
              <a:ext cx="8223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d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For general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Reconvalesc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atig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Neurocirculatory dyston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For local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osttraumatic condition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Rheumatic diseas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ocal swelling and edem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ervical and lumbar syndrom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laccid and spastic paresis and paralysi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ntroduction to kinesitherap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traindications for a ma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brile conditions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cute infective diseases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cute inflammatory processes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specially purul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leeding, bleeding tendenc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ymphanigitis, thrombophlebitis, severe aneurysmal dilation of a ve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linant tumo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kin disea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phrolythiasis, choleolythia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PPARATUS MASSAGE</a:t>
            </a:r>
            <a:br>
              <a:rPr sz="2600"/>
            </a:b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Apparatus- VIBRATION MASSAGE APPARATU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rcRect l="4208" t="3473" r="6312" b="44173"/>
          <a:stretch/>
        </p:blipFill>
        <p:spPr>
          <a:xfrm>
            <a:off x="457200" y="1371600"/>
            <a:ext cx="3817800" cy="3809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rcRect l="0" t="59975" r="6179" b="0"/>
          <a:stretch/>
        </p:blipFill>
        <p:spPr>
          <a:xfrm>
            <a:off x="4343400" y="1371600"/>
            <a:ext cx="3673440" cy="38419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228600" y="51814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of a pain threshold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analgesics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active hyperem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 of cellular metabolism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ion of the toxic degradable products of a pathological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74680"/>
            <a:ext cx="579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DROMA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457200" y="2408400"/>
            <a:ext cx="4800600" cy="41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h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cotish shower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harcot shower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arl wellness batht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derwater ma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irpool b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3962520" y="2130480"/>
          <a:ext cx="4697280" cy="328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130480"/>
                    <a:ext cx="469728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38:32Z</dcterms:created>
  <dc:creator>Veljkovic Miodrag</dc:creator>
  <dc:description/>
  <dc:language>en-US</dc:language>
  <cp:lastModifiedBy>Nada Miklja</cp:lastModifiedBy>
  <dcterms:modified xsi:type="dcterms:W3CDTF">2023-09-26T08:05:36Z</dcterms:modified>
  <cp:revision>78</cp:revision>
  <dc:subject/>
  <dc:title>MEHANOTERAPIJA</dc:title>
</cp:coreProperties>
</file>